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9FA-B9ED-486C-9D02-05BDE5FE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AEF-0BAE-4BA1-8465-4A64A881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73D-ECAA-42C8-A31F-B9F492DC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CEC-36C2-40C9-8063-8A6BA7E9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F3E-B696-4721-87A5-99A65A64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2D0D-C57F-43D9-B2DC-9ADEC21B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BC5-FF54-4B0D-A555-AD2BEA1A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D411-886C-4695-B46E-0BD36BD7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D440-126E-4E56-B619-B33C81EA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6431-4A11-42E7-AC3F-5FE177E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EBC-6F06-49FA-A645-E91FB25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077-B387-4046-82CF-53DAB0BC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4FE-A838-485F-B092-A344AEC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101F-AE6F-4B62-B409-28BFE6D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9EF-D6C9-4E44-A4E7-586BAAC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A5E0-D009-474B-8659-99FFD806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CE5-3DFA-40F2-A409-2C538779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A7B88-754C-4E08-949A-F12CC4F3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84BCE-C040-4B32-958D-A59B5A17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78445-CFCE-4E36-A84F-24DAC7B1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9C199-5D6A-406E-A3F1-8FA84AF0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4B20F-E5C8-4D60-A74A-13ACD576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7D2-827A-4C28-9703-C37D88F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72DF4-D3FD-4E8F-9B86-34701FEA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14AB3-70A4-41E7-A889-DC0A596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7ED5C-C833-4A3F-A532-7720B42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B4F07-836A-4952-B5A6-F26865D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33B62-6AB5-4D1B-A327-E3EF12D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218D4-D392-4CC2-AEF0-3D2C542D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FECCE-9E2A-4554-95DE-D2C73FFE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FDBC-E37A-45CB-A585-4C939AB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F270-5610-4F84-97E0-FD79BE8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46CF-C090-4F84-ADBD-228468DA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CBB-AE9A-43A1-9B9B-C187A626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B692-97AA-4D39-9101-A437C94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A9FD-3D3C-4BE5-9168-EEAD063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5609-95B8-4B59-A83B-0A29F88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1B99-99FF-4CED-A64B-441B4ED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F72C-E110-4CD4-BC12-F2A7207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B224-CEA0-420C-A662-86964DA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8188-D2F5-4928-9EF1-02CE367D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DB1B-BE61-4FE6-B319-BD1C3E9F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80D5-F811-4832-9325-2F5FD9BC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7EA77-861D-4030-BAAF-2894814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28-FB18-4453-9643-EFC55CC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F00A8-80D4-4AAA-9036-4BE2AFA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2ECF0-BA85-46D7-8D9A-786752E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D1F88-63DA-4E41-B165-F749247A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1B8C5-82B5-4EC6-8D74-42BDFDE9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9433F-DC30-45C2-9A42-BFCA967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3321B-C987-4C34-A354-8508294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E39A2-0012-4685-9787-93EFCBD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B5990-B458-46F4-A988-737C785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C93DB-E16A-400F-8BF2-C8BFBE8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3D532-E314-4F87-ACD1-B0F3A94C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3DC-17C1-45C4-A694-EEBB11C6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C2C2B-F79A-470C-A53E-45B523A1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A5AAB-76E0-4566-AE19-70A1E561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BDC14-39F0-40B8-94E3-9C07510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8A2FC-67F5-4147-8726-41C53B87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1162E-518E-4B5D-98BA-CD6E5707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F455D-4EB2-4096-AB1E-59E63C0D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07925-E5E0-44D0-823F-9DBC5E9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F553A-C8F3-4FE9-A5D1-0CC0D28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D5BCC-5746-497D-80D6-9578360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2EA12-D643-4FAF-8587-9DCDDB2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7DE-EC43-4733-8509-F9B8A4A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FAA05-50F1-4CCF-B278-C266460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D2A22-E420-4208-A04A-CF2F4181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2C470-5537-4737-8001-AA8BF7DC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7E0CB-87EF-40F9-894C-C8C27AB7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18622-5ED2-4F4C-A35F-37F35BE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56015-9413-48DE-AB82-2A162A65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9BD70-E812-4FDF-9FBE-D7C3F7AB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F8EB4-50A5-4955-A6DA-427A9B4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53236-4D01-4806-8D48-6648FF95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A555B-4444-48BB-B356-9BF22F4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EE3-E410-4A0B-823A-1266F12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6F42E-1CC8-417B-8BFA-B888F73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61745-79E9-4A3D-9CE2-87BB968E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5F6F1-E872-4F71-89F7-C3E9CA8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7CB3B-F859-400E-A75F-4B9EE280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AF63D-A644-4128-AB90-2BA29431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80D-AD20-4DAC-A356-C424BE9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1BB-8F1F-447B-8273-6041CCC3BA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118-E3C9-49B9-8138-5EA31F1897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91A-F332-42D6-8413-582CFFBE55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4C60-E7E4-4568-BF71-19F6EECE7C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A06-1383-4792-A57D-B9DBE3516A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7D3-53EE-4B8E-9030-278D3AB0C0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053-828D-4E35-85B5-789D9CD39A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Century Gothic"/>
              </a:rPr>
              <a:t>MILK TEMPERATURE EXPERIMEN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entury Gothic"/>
              </a:rPr>
              <a:t>Forensic Investig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2050920" y="836640"/>
          <a:ext cx="6551640" cy="511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65516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1989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755640" y="1916280"/>
            <a:ext cx="6480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side: It took an hour and five minutes to get to its temperature inside which was twenty six degrees. We past the temperature at 12:10 but we kept on recor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side: We didn’t get to our temperature as there was an accident with the milk. The lowest we got was nineteen degrees. Our temperature to reach was twelve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CONCLUS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539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Forte"/>
              </a:rPr>
              <a:t>How do both experiments we did in class relate to my understanding of ‘corpse cooling’?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entury Gothic"/>
              </a:rPr>
              <a:t>By how long it takes for a human body's blood to cool down to its surrounding temperatur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 rot="20663400">
            <a:off x="5651640" y="3933720"/>
            <a:ext cx="26636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-1189080" y="1814400"/>
            <a:ext cx="5043600" cy="50436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orte"/>
              </a:rPr>
              <a:t>Year 7 Room 0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59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By Jess Subritzky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68360" y="1483920"/>
            <a:ext cx="7456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How long will it take for hot milk to cool down to environmental temperature and will it cool down as fast as wat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 rot="1526400">
            <a:off x="4535280" y="2680920"/>
            <a:ext cx="4608360" cy="4176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QUEST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539640" y="1341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I think that it will take longer than the water did to cool down because the milk is thicker. I think it will take about an hour and a half to cool down inside and an hour and fifteen to cool down outsi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HYPOTHESI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 rot="316200">
            <a:off x="4067280" y="4581000"/>
            <a:ext cx="1747800" cy="1758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the environmental (surroundings) temperatur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ill the cup approximately half full with hot milk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Use the pen to mark the position of the milk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  the initial  temperature of the milk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the temperature of the milk every five minute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Stop recording when the milk temperature is the same as the environmen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TES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 rot="869400">
            <a:off x="7020000" y="5300280"/>
            <a:ext cx="16923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394920" y="2276280"/>
            <a:ext cx="74674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INSIDE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OUTSIDE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Forte"/>
              </a:rPr>
              <a:t>TEMPERATURES OF SURROUNDINGS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INSIDE 1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500120" y="2428920"/>
          <a:ext cx="652788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47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INSIDE 2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57200" y="2714760"/>
          <a:ext cx="6096240" cy="2593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OUTSIDE 1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571760" y="2643120"/>
          <a:ext cx="6095880" cy="2971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EMPER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OUTSIDE 2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00120" y="3000240"/>
          <a:ext cx="6096240" cy="2229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1:59:59Z</dcterms:created>
  <dc:creator>AliceH</dc:creator>
  <dc:description/>
  <dc:language>en-US</dc:language>
  <cp:lastModifiedBy>AliceH</cp:lastModifiedBy>
  <dcterms:modified xsi:type="dcterms:W3CDTF">2009-07-30T23:53:56Z</dcterms:modified>
  <cp:revision>17</cp:revision>
  <dc:subject/>
  <dc:title>Blood Temperature Experiment</dc:title>
</cp:coreProperties>
</file>